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1.jpeg" ContentType="image/jpeg"/>
  <Override PartName="/ppt/media/image20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4.jpeg" ContentType="image/jpeg"/>
  <Override PartName="/ppt/media/image22.jpeg" ContentType="image/jpeg"/>
  <Override PartName="/ppt/media/image3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4825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4400" cy="966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760" y="-360"/>
            <a:ext cx="29700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010880" y="725400"/>
            <a:ext cx="4832280" cy="36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182160"/>
            <a:ext cx="297036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760" y="9182160"/>
            <a:ext cx="29700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D38A-2B39-413A-81A5-8E02EA88095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Ökologische Steuerrefor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ni-BHKW wurden im Rahmen der ökologischen Steuerreform als besonders förderungswürdig eingestuf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ährend konventionell erzeugte Energie verteuert wurde, erhalten die Betreiber von Mini-BHKWs beträchtliche staatliche Zuschüsse und steuerliche Vorteil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efreiung von der Stromsteuer: 2,05 Cent/kWh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den selbst erzeugten und genutzten Stro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stattung der Mineralölsteuer: 0,55 Cent/kWh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das im BHKW eingesetzte Erd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tspricht etwa 15 bis 20 % des Gaspreis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lüssiggas 60,0 €/1000 k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WK-Modernisierungsgesetz (KWKModG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onus von 5,11 Cent/kWh zusätzlich zur gesetzlich festgelegten Vergü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ird vom örtlichen Energieversorgungsunternehmen gezahl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Zinsgünstige KfW-Kredit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ergeben von der Kreditanstalt für Wiederaufbau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bäudesanierungsprogramm oder CO2-Minderungsprogram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eine gewerbliche Nutzung Förderung durch das KfW-Umweltprogramm möglich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sparungen durch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ringere Stromkos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sparungen ergeben sich aus dem Erlös der Strom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Je höher die Betriebsstundenzahl des Mini-BHKWs im Jahr ist, umso größer ist auch der Erlös aus der Strom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Die patentierte Leistungsmodulation des ecopower Mini-BHKWs ermöglicht eine bis zu 60% höhere Stromproduktion als Geräte mit konstanter Leistung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treiber profitieren von steigenden Strompreis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gesparte Stromkosten liegen höher als die Einspeisevergü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ier ergibt sich der Erlös aus der Einsparung, die dadurch erzielt wird, dass der Strom nicht beim Versorger gekauft werden muss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deutet: Je höher die Preise, desto höher die Einspa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setzlich festgelegte Einspeisevergütung steigt ebenfalls mit dem Strompreis (Stand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3. Quartal 2005: 4,387 Euro-Cent je Kilowattstund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leichzeitig muss die produzierte Wärme für einen energiesparenden Betrieb mitgenutz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deutet: Gebäude mit ausreichend hohem ganzjährigen Strom- und Wärmebedarf sind für den Mini-BHKW Einsatz geeigne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eubau und Modernisierung v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-, Zwei- und Mehrfamilienhäus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werbebetrie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tels, Pensionen und Gasthöf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itnessstudios, Gesundheits- und Therapiezent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indergärten, Schulen und Sporth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eitere Gebäude mit ganzjährigem Strom- und Wärmebedarf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rinzip der Kraft-Wärme-Kopp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efinition nach §3 KWKModG: „Gleichzeitig Umwandlung von eingesetzter Energie in elektrische Energie und Nutzwärme in einer ortsfesten technischen Anlage“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as-Verbrennungsmotor treibt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nerator zur Stromerzeugung a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echanische Energie des Motors wird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elektrische Energie umgewandelt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utzung der entstehenden Abwärme zur Heizung und Warmwasserberei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lattenwärmetauscher koppeln die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m Generator, im Motorkühlwasser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und –öl enthaltene Wärme au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oher zusätzlicher Wärmegewinn durch Brennwerttechnik auf Erdgasbasi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npassung der Mini-BHKW-Leistung an den tatsächlichen 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öglich durch variable Motor-Drehzah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erhindert vorzeitiges Abschalten des Mini-BHKWs aufgrund zu geringer Leistungsanford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ringere Wartungskosten durch reduzierte Motortak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esentlich höhere Anzahl von Betriebsstunden pro Jahr als bei Geräten mit konstanter Drehzah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hrt zu einer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is zu 60% höhere Strom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irtschaftlicher Einsatz auch in Objekten mit geringerem Strom- und Wärme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eiz-Diagramm eines Mini-BHKWs mit konstanter Drehzahl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Mini-BHKW liefert nur ein Drittel der maximalen geforderten Leis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Konstante thermische und elektrische Leis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ohe Taktung des Motors, insbesondere bei geringer Leistungsanford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Abdeckung der Spitzenlasten mit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eiz-Diagramm eines Mini-BHKWs mit variabler Drehzahl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Dank Modulation können auch niedrigere Wärmemengen durch das Mini-BHKW abgedeck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Thermische und elektrische Leistung sind variab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Wenig Taktung des Motors das sich das Gerät an die Leistungsanforderung anpass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Abdeckung der Spitzenlasten mit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eiz-Diagramm eines Mini-BHKWs mit variabler Drehzahl im monovalenten Betrieb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Die geforderte Wärmemenge kann vollständig durch das Mini-BHKW abgedeck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Kein Spitzenlastkessel nöti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Thermische und elektrische Leistung sind variab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Wenig Taktung des Motors das sich das Gerät an die Leistungsanforderung anpass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ffizientes und kostensparendes System für dezentrale Strom- und Wärmeerzeu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eizung, Warmwasser und Strom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t einem Syste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oppelte Nutzung der eingesetzten Energ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is zu 60% höhere Stromproduktion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mit patentierter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lektrische Leistung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on 1,3 bis 4,7 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hermische Leistung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on 4,0 bis 12,5 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reite Anwendungsmöglichkei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ohe Wirtschaftlichk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her Wirkungsgrad über den gesamten Leistungsbere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assergekühlter Permanentmagnet-Generator zur Stromerzeu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irekt am Motorblock befestig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egelung der Motordrehzahl erfolgt über die Last des Generator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otor nutzt immer das optimale Drehmomen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icht über Drosselklappe (siehe Motortechnik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Leistungselektronik mit Pulsweitenmoduli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ach Drehzahl variierende Wechselspannung des Generators wird in netzsynchronen dreiphasigen Wechselstrom umgerichte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ntriebseinheit des Mini-BH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peziell entwickelter, wassergekühlter Gas-Verbrennungsmoto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trieb mit Erdgas oder Flüssig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ptimales Leistungsvermögen durch immer vollständig geöffnete Drosselklapp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durch auch im Teillastbetrieb eine maximale Leistungsausbeu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rosselklappe mindert im geschlossenen oder teilgeschlossenen Zustand die Effizien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iedrige Emissionswerte durch Drei-Wege-Katalysator mit Lambda-Rege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genwärtig wirkungsvollstes Katalysatorensyste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gaswerte liegen 50% unter den Vorgaben der TA-Luf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Langlebige und störungsfreie Techni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ydraulische Stößel erübrigen die Ventileinstel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Verschleißfreier und geräuscharmer Start über den Generato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Reduzierte Wartungskos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lasser und Batteri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entf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artungsintensive Bauteile, daher reduzierte Wartungskosten und –aufwa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urch ein genau auf das Startverhalten abgestimmtes Startprogramm ersetz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Erhöhte Betriebssicherh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essere Widerstandsfähigkeit gegenüber Umwelteinflüss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tartet auch unter erschwerten Einsatzbedingung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z.B. bei stark schwankender Gasqualität, hohem Luftdruck oder extremen Temperatu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azu komm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utlich sanfteres Startverhal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ringerer Energieverbrauch in der Startphas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utzerfreundliche Bedien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Über 4-zeiliges Display mittels Dreh-/Druckknop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lle wichtigen Betriebswerte direkt abrufba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pezielles Wärme- und Schalldämmgehäus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räuscharmer Betrieb und geringe Wärmeverlus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ntspricht höchsten Sicherheitsvorschriften (CE-Zertifiziert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uropa und Deutschla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prüft nach der strengen europäischen Gasgeräterichtlin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arallelbetrieb mehrerer Mini-BHKW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Objekten mit höherem Leistungs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 Geräte übernimmt die Steuerung der nachgeschalteten Mini-BHKWs (Master/Slave-Betrieb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lexible Aufrüstung bei gestiegenem Energiebrau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tarke Energieversorgung für netzfreie Gebie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trieb mit Flüssig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ichere Stromversorgung in Netzqualitä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eignet für Notstrom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ini-BHKW arbeitet das ganze Jahr über als Strom- und Wärmeerzeuger und schaltet nur im Bedarfsfall auf den Notstrombetrieb um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vestitions-, Betriebs- und Wartungskosten für separates Notstromaggregat entf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weiterter Systemumfa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usätzlich zum ecopower Mini-BH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atteriewechselrichter zum Aufbau eines ein- oder dreiphasigen Stromnetz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atterieanlage zur Stromspeich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Kühler zur Abführung der überschüssigen Wärme, die nicht mehr vom Speicher aufgenommen werden kan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facher und schneller Zuga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u einem erfolgversprechenden Geschäftsfel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SHK- und Elektro- Handwer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Umfassende Unterstütz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allen Bereichen des BHKW-Geschäft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chulung und Qualifizi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lanungsunterstützung und technische Bera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oftwarepaket für Inbetriebnahme und War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ttbewerbsvorteil: Patentierte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s einziges Mini-BHKW am Mar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sgereiftes, fortschrittliches Produ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reite Anwendungsmöglichkei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ohe Leistungsfähigkeit und Zuverlässigk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rund- bzw. Mittellastabdeckung durch Mini-BH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HKW Kann auch außerhalb der Heizperiode mit höchstmöglicher Leistung lauf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deckung von Spitzenlasten durch zusätzlichen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ärmespeicher zur Optimierung der BHKW-Leis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i Stromanforderung anfallende Wärme wird im Speicher vorgehalten und später bei Bedarf genutzt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onovalenter Betrieb bei ausreichend großem Pufferspeicher mög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bindung in das Stromnetz erfolgt in den meisten Fällen netzparall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ni-Blockheizkraftwerk wird an das lokale Stromnetz angeschlossen und speist überschüssigen Strom ei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Rückspeisezähler wird zusätzlich zum Bezugszähler installiert, damit der eingespeiste Strom vergütet werden kan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om Generator erzeugte Wechselspannung variiert je nach der momentanen Motordrehzah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Über die Leistungselektronik wird die Spannung deshalb zunächst gleichgerichte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nd mit dem Aufwärtswandler in eine höhere Ausgangsspannung gewandel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in Wechselrichter mit nachgeschaltetem Netzfilter formt diese in netzsynchronen dreiphasigen Wechselstrom u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nschlussfertige Lief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le Verbindungen an der Geräterückwa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fache Anlieferung und Einbringung durch geringes Gewich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200 Kg leichter als der Wettbewerb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ufstellung und Anschlussarbeiten 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ie beim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bindung in die Hydraulik des Heizungssystems,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stallation einer Gasanlage und Anschluss an die Gasregelstrecke des Mini-BHKW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stallation der Abgasanlag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etzanschluss kann von jedem Elektrofachmann durchgeführ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ird mit einer 5 x 1,5 mm²-Leitung über eine allpolige Trennstelle (L1, L2, L3, N) ausgefüh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bgesichert wird die Zuleitung mit 3 x 10 A; falls vom EVU vorgeschrieben, ergänzt durch einen Neutralleiter-Tren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fache Inbetriebnahme mit ecoServ Softwar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lagenkonfiguration bei der Anlieferung bereits voreingestell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1995-1998 Produktentwicklung in der Schwei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m Rahmen des Hybrid-Antriebs für den Sma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twickler/Erfinder Herr Daniel Ryhi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rototyp 1995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1997, 1998 Anpassung an die Marktbedürfnisse (Redesign um das Produkt flexibler einsetzbar zu machen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1998, 1999 Vorser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1999 Beginn der Serienproduktion in Gera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2000 Valentin Energie- und Umwelttechnik Gmb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Übernah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2004 PowerPlus Technologies Gmb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ritt als 100%ige Tochter der Vaillant Group die Nachfolge der Valentin Energie- und Umwelttechnik GmbH a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tomatische Anpassung an den Energiebedarf des Objekt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Kein Regelaufwand für den Betreib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rechnung der optimalen Motordrehzahlen nach Heizkurve, zu erwartendem Strombedarf und Außentemperatu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ermanente Auswertung der Betriebsda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Integrierte selbstlernfähige Speicherbewirtschaf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t Brauchwasseraufbereitung und Legionellenschutzfun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olle Ausnutzung des Modulationsbereich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ch im Teillastbetrieb Wirkungsgrad von über 90 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her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igenschut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ini-BHKW erkennt selbstständig falsche hydraulische Einbind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immt den Betrieb erst wieder auf, wenn der Fehler behoben worden ist.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ringe Stillstandsverluste durch direkte Ansteuerung des Spitzenlastkessel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aster/Slave-Betrieb mehrerer Anlagen bei höherem Leistungs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artung alle 4000 Betriebsstunden bzw. einmal im Jah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chsel von Öl, Filtern und Zündkerze sowie Abgasmess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omfortable Wartungssoftware ecoServ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frage und Anpassung von Betriebszuständen und Anlagenfunktionen per Fernüberwach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artungsvertrag für höhere Sicherh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lkulierbare Kosten für Wartung und Instandhal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copower Fachpart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Qualifiziert und zertifizi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ehrtägige Schu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chrittweise Ausweitung der Kompetenzen mög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sbau der Vertriebsorganis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ßendienst neu organisi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zahl der Vertriebsmitarbeiter und der technischen Berater deutlich erhöht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elle Betreu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sche Berater in Gera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lächendeckendes Netz von Vertriebsingenieu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Zusammenarbeit mit Vaillan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aillant Verkaufsberater zur Kontaktaufnahme und Inform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aillant Vertriebsingenieure als kompetente Ansprechpartner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sche Service-Hotlin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ei allen Fragen rund um bereits im Betrieb befindliche Mini-BHKWs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o – Do 7:00 bis 19:00 Uh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r bis 17:00 Uhr; Sa 10:00 bis 17:00 Uh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 der Heizperiode von September bis April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undesweiter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erkskundendienst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lächendeckendes Netz von Service-Stützpunkten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törungsbeseitigung, Inbetriebnahme und Wartungsarbei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s geht um die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ontinuierliche Sicherung der Produktqualitä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s wesentliche Geschäftsbasi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t Hilfe der eigenen Engineering-Kompeten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zu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Überprüfung der Produktleistung unter Einsatzbedingung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enger Zusammenarbeit mit den Fachpartner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ehleranalys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mplementierung der Ergebnisse in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ortlaufende Produktpfleg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erbesserung von Leistungsfähigkeit und Zuverlässigk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ptimierende Produkt-Updat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bau Ölkühler, Software Update, Neuer Abgasschalldämpfer, Reduzierung von Ablagerungen durch beschichtete Ventile, Erhöhung der Lebensdauer der Schwingungsdämpfer, Einbau MES Öldruckschalt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esentliche Ziele für dieses Jahr: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sbau des Fachpartnernetz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fbau neuer Handwerksbetriebe als Fachpart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urch umfassende Betreuung in allen Bereichen des BHKW- Geschäft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facher, schneller Einstie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bei auch bestehenden Fachpartnern die Vermarktung wesentlich erleichter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itere Produktoptimierung nach den Markterforderniss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Regelungstechni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echnische Verbesserungen (Vereinfachung, weniger Verschleißteil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ptimierung der 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schließung neuer Märkte in Europa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orreiter Notstromversorgung: Unabhängige Stromversorgung durch Insellösungen in Gebieten in denen die Stromnetze nicht so zuverlässig / stabil si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leinstellung in diesem Mar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chwimmbad für optimalenStrom- und Wärme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lexibler Einsatz durch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ollständige Finanzierung über KfW-Kred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roblemlose Ergänzung des vorhandenen Gas-Heizkessel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sorgung mehrerer Haushal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Zusätzlicher Erlös durch Stromverkauf an die Miet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tel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ension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aststät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estaurant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coisland Insellösung für abgelegene Objekte ohne Stromnetz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Technologieführer im 5 kW Segment (elektrische Leistung) der dezentralen Energie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atentierte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ortschrittliche Fernwar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ortschrittliches und ausgereiftes Produ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Qualitätssicherungsprogram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roduktleistung und –qualität werden fortlaufend kontrolliert und optimi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ge Zusammenarbeit mit den Fachpartner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undesweiter Vertrieb über Partnerbetrie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etz von autorisierten und qualifizierten Fachbetrieb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Umfassende Herstellerunterstützung (Vertrieb, Marketing, Servic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äckerei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ärtnereibetrie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risörgeschäf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arbeitendes Gewer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tohäuser etc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itnessstudio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sundheits- und Therapiezent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Unabhängigkeit und Sicherheit durch „eigenes Stromnetz“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tädtische Schwimmbäd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indergärten und Gemeindezent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farrheim und Kirch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chulen und Sporth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ft Verbundlösungen die zusammen addiert ideale Voraussetzungen bie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achhaltigkeit = Zukünftige Generationen sollen die gleichen Möglichkeiten und Voraussetzungen haben wie wi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ilt insbesondere in Bezug auf die zur Verfügung stehenden Ressourcen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roblem: Steigender Energieverbrauch bei gleichzeitig sinkenden Vorräten fossiler Energieträge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tspricht nicht dem Nachhaltigkeitsgedanken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och vorhandene Reserven an fossilen Energieträge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f Basis des gegenwärtigen Verbrauchs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döl - 40 Jahr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as - 66 Jahr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teinkohle - 250 Jahr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teigt der Verbrauch weiter wie bisher, werden die Vorräte noch früher erschöpft sein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Langfristig wird Energie kostba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ffiziente Energieerzeugung ist daher ein wichtiger Baustein für eine nachhaltige Entwick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iter steigende CO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-Emission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urch die Verbrennung von Kohle, Öl und Erd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rotz Kyoto-Protokol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iel: Industriestaaten verringern ihre Emissionen der sechs wichtigsten Treibhausgase bis zum Zeitraum 2008 bis 2012 insgesamt um mindestens fünf Prozent gegenüber 1990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Treibhausgase führen zur Aufheizung der Atmosphär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olgen in den nächsten 100 Jahren bei gleichbleibendem Tre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Temperaturerhöhung um 2 bis 5 °C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Meeresspiegel steigen um 10-90 c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swirkungen sind heute schon zu spüren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äufigere Dürren, Stürme und Überschwemmungen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iehe Hochwasser-Katastrophe 2002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iehe New Orlean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Reduktion der Emissionen erforder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fragt sind daher Ansätze, die es ermöglichen Energie einzusparen und effizienter zu nutz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Dezentrale Mini-BHKWs reduzieren Primärenergieverbrauch um mehr als ein Dritt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ffizientere Energieerzeugung durch Kraft-Wärme-Kopp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Doppelte Nutzung der eingesetzten Energ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i der Stromerzeugung entstehende Abwärme wird direkt vor Ort genutz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ur Warmwasserbereitung und Heiz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luste &lt; 1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samtwirkungsgrad von über 9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emgegenüber steh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he Verluste bei der konventionellen Energie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trennte Erzeugung von Strom und Wär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tromerzeugung im Großkraftwer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wärme ungenutz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urchschnittlicher Wirkungsgrad 37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zu kommen Leitungs- und Transportverlus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lus Wärmeerzeugung dezentral mit dem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luste ca. 4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i Ŋ(el) von 36% und Ŋ(th) von 85%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samtwirkungsgrad &lt; 6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Mini-BHKWs tragen zum Klima- und Ressourcenschutz bei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eniger Energieverbrauch zur Bereitstellung von Strom und Wär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achhaltigere Nutzung der schwindenden Rohstoffvorrä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enken Primärenergieverbrauch um mehr als ein Dritt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ffiziente Brennstoffausnutzung ermöglicht parallel CO</a:t>
            </a:r>
            <a:r>
              <a:rPr b="0" i="1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eduktion der CO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-Emissionen um bis zu 60% mög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ffektivste Stromerzeugungstechnologie, gemessen an der erreichbaren CO</a:t>
            </a:r>
            <a:r>
              <a:rPr b="0" i="1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-Minderung pro eingesetztem Euro (ASU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ni-BHKWs leisten wesentlichen Beitrag zum Umweltschut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Laut Bundesregierung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esentliche Voraussetzung, um die mittel- und langfristigen Klimaschutzziele zu erreichen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s diesem Grund wird die effiziente Energieerzeugung mit Mini-BHKWs auch von staatlicher Seite geförd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C5B3-871A-42A0-A196-F1F370AFD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8B85-79F6-4538-AA11-C084FE10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3362-8C7A-4960-8A5F-1EFB5850A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BB1A-3BED-4125-B315-42FEF0588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09ED-3B37-49EB-AD59-8A9D96F9E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6A38-3832-4CBD-8C46-FBF96EBE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AFFC-AFBE-43BA-BC33-63476CED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368C-F2E2-43DD-B1DE-335268CF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23BE-1D27-4D24-9B58-1F8E4545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99072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A67C-14CB-4F1B-9E75-B44E84B8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4C6B-1F1D-4C32-8616-F78C4702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4B7A-27CB-4518-AB43-15B3060A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16B7-921D-4C23-AD0F-21912801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0891-A2B2-4AC8-8D53-3C7E2904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D8E0-3482-4BE1-99F7-46053554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02B5-F1C0-45A5-8219-0EE5E1B0A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3E18-F56D-43D2-8DB7-5AEF06ADB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FE6E-2641-4A6C-A9E2-D0023804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AABD-2ED9-459F-BAE1-4E56EDE9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E00A-0B41-409E-86C0-697082AB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99072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3D2C-0D28-47D1-8558-F42D0089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9112-EB41-494C-BD34-9328615E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18B3-BAC2-473C-9C6B-41870519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A16C-53B2-4B6E-92B3-66EBDA9B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A98F-B232-4754-A197-503A538404F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7E46-BF51-46FE-9CE3-3BBF7C580C7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8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copower Mini-Blockheizkraftwerk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as intelligente System fü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ie dezentrale Strom- und Wärme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3" name=""/>
          <p:cNvSpPr/>
          <p:nvPr/>
        </p:nvSpPr>
        <p:spPr>
          <a:xfrm>
            <a:off x="5198760" y="4495680"/>
            <a:ext cx="315720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PowerPlus Technologies Gmb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Fasaneninsel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07549 G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Tel. 0365-83040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www.ecopower.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19320" y="3552840"/>
            <a:ext cx="358128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Fördermittel nutz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Ökologische Steuerreform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eine Stromsteuer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2,05 Cent/kW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stattung Mineralölsteuer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0,55 Cent/kWh (Erdgas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WK-Modernisierungsgesetz (KWKModG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onus: 5,11 Cent/kWh zusätzli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r gesetzlich festgelegten Vergüt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insgünstige KfW-Kredite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948280" y="1981080"/>
            <a:ext cx="2586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nergiekosten spar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725" r="0" b="14287"/>
          <a:stretch/>
        </p:blipFill>
        <p:spPr>
          <a:xfrm>
            <a:off x="609480" y="1838160"/>
            <a:ext cx="7925040" cy="48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gebiete ecopower Mini-BHKW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-, Zwei- und Mehrfamilienhäus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werbebetrieb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tels, Pensionen und Gasthöf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itnessstudios, Gesundheits-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d Therapiezentr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indergärten, Schulen und Sporthall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6387" r="0" b="0"/>
          <a:stretch/>
        </p:blipFill>
        <p:spPr>
          <a:xfrm>
            <a:off x="5413320" y="2057400"/>
            <a:ext cx="2995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Fortschrittliche und ausgereifte Technik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odukteigenschaften ecopower Mini-BHKW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Funktionsweis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inzip der Kraft-Wärme-Koppl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as-Verbrennungsmotor treib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nerator zur Stromerzeugung a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utzung entstehender Abwärme zu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eizung und Warmwasserbereit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048280" y="1981080"/>
            <a:ext cx="3486240" cy="4205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Hauptkomponenten 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46784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atentierte Leistungsmodulatio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passung der Mini-BHKW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eistung an den tatsächlich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edarf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is zu 60% höher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produk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irtschaftlicher Einsatz au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 Objekten mit geringerem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- und Wärmebedarf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7089" t="16668" r="11406" b="7691"/>
          <a:stretch/>
        </p:blipFill>
        <p:spPr>
          <a:xfrm>
            <a:off x="4724280" y="1981080"/>
            <a:ext cx="3505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0" t="0" r="0" b="7279"/>
          <a:stretch/>
        </p:blipFill>
        <p:spPr>
          <a:xfrm>
            <a:off x="744480" y="1371600"/>
            <a:ext cx="7637400" cy="52578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Produktionskurve – normales Mini-BHKW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0" t="0" r="0" b="7176"/>
          <a:stretch/>
        </p:blipFill>
        <p:spPr>
          <a:xfrm>
            <a:off x="755640" y="1371600"/>
            <a:ext cx="7626240" cy="52578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Produktionskurve – modulierendes Mini-BHKW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rcRect l="0" t="0" r="0" b="7176"/>
          <a:stretch/>
        </p:blipFill>
        <p:spPr>
          <a:xfrm>
            <a:off x="755640" y="1371600"/>
            <a:ext cx="7626240" cy="52578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Produktionskurve – monovalenter Betrieb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copower Mini-Blockheizkraftwerk (Mini-BHKW)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ffizientes und kostensparende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ystem für die dezentral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- und Wärmeerzeu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is zu 60% höhere Stromproduktio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t patentierter Leistungsmodulation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16666" t="0" r="18750" b="0"/>
          <a:stretch/>
        </p:blipFill>
        <p:spPr>
          <a:xfrm>
            <a:off x="5330880" y="1981080"/>
            <a:ext cx="3203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ermanentmagnet-Generato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her Wirkungsgrad üb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samten Leistungsbereic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gelung Motordrehzahl erfolg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 Last des Generator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eistungselektronik mi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ulsweitenmodulier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65760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Gas-Verbrennungsmoto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triebseinheit des Mini-BHKW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iedrige Emissionswerte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rei-Wege-Katalysator mi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ambda-Regel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anglebige und störungsfreie Technik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348160" y="1981080"/>
            <a:ext cx="31863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owerstart-Funktio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schleißfreier, geräuscharm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art über den Generato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duzierte Wartungskost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lasser und Batterie entfall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höhte Betriebssicherhei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artet unter erschwert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satzbedingung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65760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rgänzende Produkteigenschaft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utzerfreundliche Bedien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pezielles Wärme- un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alldämmgehäus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ntspricht höchsten Sicherheit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rschriften (CE-Zertifiziert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arallelbetrieb mehrer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16666" t="0" r="18750" b="0"/>
          <a:stretch/>
        </p:blipFill>
        <p:spPr>
          <a:xfrm>
            <a:off x="5330880" y="1981080"/>
            <a:ext cx="3203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724280" y="2054160"/>
            <a:ext cx="3810240" cy="32036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coisland - Insellösung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tarke Energieversor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ür netzfreie Gebie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ichere Stromversor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 Netzqualitä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eignet für Notstrom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weiterter Systemumfa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Bieten Sie Ihren Kunden Mehrwert!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facher und schneller Zuga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 einem neuen Geschäftsfeld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 neues Geschäftsfeld für Fachhandwerke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facher, schneller Zugang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ie umfassende Unterstütz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er PowerPlus Technologies Gmb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ttbewerbsvorteil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atentierte Leistungsmodula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30146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bindung in die Gebäudetechnik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382240" cy="4051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Elektrisches Blockschema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17281" r="0" b="0"/>
          <a:stretch/>
        </p:blipFill>
        <p:spPr>
          <a:xfrm>
            <a:off x="152280" y="1981080"/>
            <a:ext cx="8839440" cy="39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Installation und Inbetriebnahm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3914" r="7692" b="4757"/>
          <a:stretch/>
        </p:blipFill>
        <p:spPr>
          <a:xfrm>
            <a:off x="457200" y="1676520"/>
            <a:ext cx="769608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Geschicht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1995-1998 Produktentwicklung (Schweiz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1999 Beginn der Serienproduktion in Gera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2000 Valentin Energie- und Umwelttechnik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2004 PowerPlus Technologies Gmb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799240" y="2057400"/>
            <a:ext cx="2735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Fortschrittliches Steuer- und Regelungssystem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tomatische Anpassung a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nergiebedarf des Objekte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tegrierte selbstlernfähig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peicherbewirtschaft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lle Ausnutzung de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odulationsbereich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her Eigenschutz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19481" t="0" r="0" b="0"/>
          <a:stretch/>
        </p:blipFill>
        <p:spPr>
          <a:xfrm>
            <a:off x="4495680" y="2066760"/>
            <a:ext cx="403884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Geringer Wartungsaufwand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artung alle 4000 Betrieb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unden bzw. einmal im Ja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chsel von Öl, Filtern und Zünd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erze sowie Abgasmess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omfortable Wartung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oftware ecoServ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artungsvertrag für höhere Sicherhei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462640" y="1981080"/>
            <a:ext cx="307188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Vertriebsstruktu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copower Fachpartn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sbau der Vertriebsorganisa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sammenarbeit mit Vaillan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094360" y="1981080"/>
            <a:ext cx="31352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Serviceorganisatio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echnische Service-Hotlin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o – Do 7:00 bis 19:00 U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r bis 17:00 U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a 10:00 bis 17:00 U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undesweiter Werkskundendienst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örungsbeseitigung, Inbetrieb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ahme und Wartungsarbeit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27813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Qualitätssicherungsprogramm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ontinuierliche Sicher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er Produktqualitä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prüfung Produktleist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ter Einsatzbedingung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ortlaufende Produktpfleg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9000" t="0" r="33003" b="0"/>
          <a:stretch/>
        </p:blipFill>
        <p:spPr>
          <a:xfrm>
            <a:off x="4896000" y="2200320"/>
            <a:ext cx="33336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erspektiv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sbau Fachpartnernetz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itere Produktoptimier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ach Markterforderniss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schließung neuer Märkt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 Europa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298944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gebiet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Neubau Einfamilienhaus mit Schwimmbad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3962520" cy="2210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wimmbad für optimal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- und Wärmebedarf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lexibler Einsatz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eistungsmodula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llständige Finanzierung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 KfW-Kredi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wohnflä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50 m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3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Selbst produzierter St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3.000 k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Vermiedene Stromkos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.567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dem Stromverka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52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kosteneinspa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.48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6,5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0" t="5807" r="0" b="7077"/>
          <a:stretch/>
        </p:blipFill>
        <p:spPr>
          <a:xfrm>
            <a:off x="4724280" y="1981080"/>
            <a:ext cx="3505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Modernisierung Zweifamilienhaus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41911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oblemlose Ergänzung de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rhandenen Gas-Heizkessel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sorgung mehrerer Haushal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sätzlicher Erlös durch Strom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kauf an die Miet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wohnflä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330 m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6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Selbst produzierter St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4.000 k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Vermiedene Stromkos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71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dem Stromverka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1.77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kosteneinspa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.11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7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rcRect l="0" t="6796" r="0" b="0"/>
          <a:stretch/>
        </p:blipFill>
        <p:spPr>
          <a:xfrm>
            <a:off x="4724280" y="1981080"/>
            <a:ext cx="3502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m Freizeitsekto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tel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ension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aststätt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staurant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78,9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.224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.133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1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84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.098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273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1,7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3960" y="4267080"/>
            <a:ext cx="171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</a:t>
            </a: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Ho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505320" cy="2284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owerPlus Technologies GmbH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echnologieführer im 5 kW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egment (elektrische Leistung)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er dezentralen Energie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ortschrittliches un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sgereiftes Produk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undesweiter Vertrieb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 ecopower Fachpartn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410080" y="4267080"/>
            <a:ext cx="3124440" cy="2035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312444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n Gewerbebetrieb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472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äckerei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ärtnereibetrieb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risörgeschäf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arbeitendes Gewerb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tohäuser etc.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28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.991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3.44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36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9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271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.938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,4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0280" y="426708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</a:t>
            </a: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Tischler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rcRect l="6817" t="4768" r="7956" b="15436"/>
          <a:stretch/>
        </p:blipFill>
        <p:spPr>
          <a:xfrm>
            <a:off x="4572000" y="1981080"/>
            <a:ext cx="3733920" cy="22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m Gesundheits- und Pflegebereich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57150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itnessstudio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sundheits- und Therapiezentr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16,7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.014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.452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57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.309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26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0,8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1560" y="4267080"/>
            <a:ext cx="25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</a:t>
            </a: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Fitness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873680" y="1981080"/>
            <a:ext cx="1603440" cy="2286000"/>
          </a:xfrm>
          <a:prstGeom prst="rect">
            <a:avLst/>
          </a:prstGeom>
          <a:ln w="28440">
            <a:solidFill>
              <a:srgbClr val="91b1c6"/>
            </a:solidFill>
            <a:miter/>
          </a:ln>
        </p:spPr>
      </p:pic>
      <p:pic>
        <p:nvPicPr>
          <p:cNvPr id="283" name="" descr=""/>
          <p:cNvPicPr/>
          <p:nvPr/>
        </p:nvPicPr>
        <p:blipFill>
          <a:blip r:embed="rId2"/>
          <a:srcRect l="0" t="0" r="14577" b="0"/>
          <a:stretch/>
        </p:blipFill>
        <p:spPr>
          <a:xfrm>
            <a:off x="6705720" y="1981080"/>
            <a:ext cx="1600200" cy="2286000"/>
          </a:xfrm>
          <a:prstGeom prst="rect">
            <a:avLst/>
          </a:prstGeom>
          <a:ln w="28440">
            <a:solidFill>
              <a:srgbClr val="91b1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n öffentlichen Einrichtung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48769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ädtische Schwimmbäd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indergärten und Gemeindezentr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farrheim und Kirch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ulen und Sporthall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10,1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.165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.501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.232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57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39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.662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,9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5120" y="4267080"/>
            <a:ext cx="34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Kirchliche Einrich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0" t="11363" r="0" b="0"/>
          <a:stretch/>
        </p:blipFill>
        <p:spPr>
          <a:xfrm>
            <a:off x="5029200" y="1981080"/>
            <a:ext cx="327672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ffiziente Energieversorgung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 als vorteilhafte Alternativ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r getrennten Erzeugung von Strom und Wär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Nachhaltige Energieversorgung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eigender Energieverbrauch –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inkende Rohstoffvorrä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och vorhandene Reserv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 fossilen Energieträger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döl - 40 Jah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as - 66 Jah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einkohle - 250 Jah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ffiziente Energieerzeu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ür nachhaltige Entwickl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800600" y="2050920"/>
            <a:ext cx="3657600" cy="25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5882" t="0" r="11764" b="0"/>
          <a:stretch/>
        </p:blipFill>
        <p:spPr>
          <a:xfrm>
            <a:off x="4567320" y="1905120"/>
            <a:ext cx="3967200" cy="41907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Veränderung des Weltklimas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iter steigende CO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-Emission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reibhausgase führen zu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fheizung der Atmosphä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emperaturerhöh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2 bis 5 °C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eeresspiegel steig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10-90 cm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äufigere Dürren, Stürm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d Überschwemmung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nergie effizienter selbst erzeugen 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 reduzieren d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imärenergieverbrau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mehr als ein Dritt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oppelte Nutzung d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gesetzten Energi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luste &lt; 10%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he Verluste bei konven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ioneller Energie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trennte Erzeu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n Strom und Wär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luste ca. 40%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426744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Direkten Beitrag zum Umweltschutz leist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 tragen zum Klima-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d Ressourcenschutz bei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achhaltigere Nutzung d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windenden Rohstoffvorrä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duktion der CO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-Emission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bis zu 60% möglic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575320" y="1981080"/>
            <a:ext cx="2959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08:28:58Z</dcterms:created>
  <dc:creator>Tim Geßler</dc:creator>
  <dc:description/>
  <dc:language>en-US</dc:language>
  <cp:lastModifiedBy>brybicki</cp:lastModifiedBy>
  <dcterms:modified xsi:type="dcterms:W3CDTF">2005-10-27T15:04:05Z</dcterms:modified>
  <cp:revision>69</cp:revision>
  <dc:subject/>
  <dc:title>  </dc:title>
</cp:coreProperties>
</file>